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6"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6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59"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0"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181D-605E-4ACD-B49F-FAEF37DFF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81D7-4F8A-4073-9C32-7850ADE6B5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inal session, we are going to discuss how to link the data we have with our programmatic questions and the decisions we need to mak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larify what we mean by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every day you need to make a decision about what to wear outside of the house. To make this decision, you may ask yourself some questions that will infor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emp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rai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vents do I have planned for the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ese questions, you may consult the thermometer, the weather report, or your daily calendar.</a:t>
            </a:r>
            <a:endParaRPr b="0" lang="en-US" sz="1200" spc="-1" strike="noStrike">
              <a:solidFill>
                <a:srgbClr val="000000"/>
              </a:solidFill>
              <a:latin typeface="Arial"/>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49EE-5E37-479B-87F5-60B45BDDDE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E174-39C2-4845-A4DA-A493BEB482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1" name="PlaceHolder 1"/>
          <p:cNvSpPr>
            <a:spLocks noGrp="1"/>
          </p:cNvSpPr>
          <p:nvPr>
            <p:ph type="sldImg"/>
          </p:nvPr>
        </p:nvSpPr>
        <p:spPr>
          <a:xfrm>
            <a:off x="1143000" y="684360"/>
            <a:ext cx="4573440" cy="3430440"/>
          </a:xfrm>
          <a:prstGeom prst="rect">
            <a:avLst/>
          </a:prstGeom>
          <a:ln w="0">
            <a:noFill/>
          </a:ln>
        </p:spPr>
      </p:sp>
      <p:sp>
        <p:nvSpPr>
          <p:cNvPr id="752"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examples of decisions that may be made at different levels of the health car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ontexts, a decision cannot be identified before a key programmatic or policy question is answered. Or decision makers may have a question about their program for which they need an answer. It is the answer to this question that may provide the evidence that some kind of action needs to be taken to either improve or realign services. In these cases, we focus on identifying ‘programmatic questions,’ as opposed to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3A43-2540-415C-8F8F-E3914DFF12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7D4D-C1CB-4C32-8E2F-4401678E3D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7" name="PlaceHolder 1"/>
          <p:cNvSpPr>
            <a:spLocks noGrp="1"/>
          </p:cNvSpPr>
          <p:nvPr>
            <p:ph type="sldImg"/>
          </p:nvPr>
        </p:nvSpPr>
        <p:spPr>
          <a:xfrm>
            <a:off x="1143000" y="684360"/>
            <a:ext cx="4573440" cy="3430440"/>
          </a:xfrm>
          <a:prstGeom prst="rect">
            <a:avLst/>
          </a:prstGeom>
          <a:ln w="0">
            <a:noFill/>
          </a:ln>
        </p:spPr>
      </p:sp>
      <p:sp>
        <p:nvSpPr>
          <p:cNvPr id="75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rogrammatic question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In some cases, it may be helpful to have participants brainstorm a list of programmatic questions and not use the list above. As participants identify questions (or as you go through the list above), talk about what data could answer the questions, as well as what decisions might result from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monthly report data reveal that only 20% of women are delivering in health facilities, ask the participants to brainstorm solutions. Identify at least one decision that would need to be ma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use an example from a PMTCT program to walk through the Framework. In this example, program managers were interested in finding out if they were reaching their testing targets in PMTCT. So we start with the program question column. They also had additional questions about the number of available test kits and the nurse-to-client ratios. Next, they considered the key stakeholders who would be interested in these questions. This information is entered in column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000000"/>
                </a:solidFill>
                <a:latin typeface="Arial"/>
              </a:rPr>
              <a:t>NOTE to facilitator:</a:t>
            </a:r>
            <a:r>
              <a:rPr b="0" lang="en-US" sz="1200" spc="-1" strike="noStrike">
                <a:solidFill>
                  <a:srgbClr val="000000"/>
                </a:solidFill>
                <a:latin typeface="Arial"/>
              </a:rPr>
              <a:t> Click mouse for animation to 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0302-3451-46CA-BB8B-83A1F88996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nswers to the questions support a programmatic change, who would be the person to lead that change? In this example, it is the Head of the Regional Health Management Committee. Note the designation ‘DM’ before the name. This indicates the individual who is the true decision maker; that is, the individual who has the responsibility to make a programmatic change. Also note that other stakeholders are listed in this column as ‘OS’ – other stakeholders, those who would be interested in the answers to the programmatic questions and the decisions made, and who would be affected by a programmatic change to PMTCT programs. These stakeholders would perhaps be other providers, the division of clinical training, or the supplier of PMTCT su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7186-775D-4BC1-A6E5-46A8DA11D8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731880" y="43131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Click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next two columns, Indicator/Data and Data Source. In these two columns, you link your decision with data. So looking back at our example, we need to answer the following questions. </a:t>
            </a:r>
            <a:r>
              <a:rPr b="0" i="1"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AB47-7A62-4E3D-8E45-F41BC8391D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e we reaching testing targets in PMT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we have sufficient test k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nurse-to-client ratio in the cli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ese questions, you will need specific data from your service statistics and logistics management system, so you indicate that in the appropriate column. In the Indicator/Data column (to the left), you specify the indicator in your RHIS that captures this information. Once the questions are answered, you can share your findings with the key decision makers and then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7299-697B-4432-A029-8269DBDB17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fill in the timeline column, which is where you indicate when you will complete your analysis and communicate it to the appropriate stakeholders. In this column, you also can indicate when you need to make your decision and take the action. </a:t>
            </a: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FA26-2EEA-4949-84B7-B9E70ED33C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lumn, you indicate the date by which you need to answer the question and make the decision. This column helps you set dates for incorporating data use into your job. Note that in this example that there are multiple dates ent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in which the provider is interested is one that requires regular monitoring. Because of this, the provider will review data every three months to determine if the facility is meeting the programmatic targets and if there are sufficient commodities to support program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2011 is in bold because it is the date on which the new strategic plan will be drafted to provide program activities and funds for the 2012 health program – it is when the key decision maker must take action on the findings of the analysis. </a:t>
            </a: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875F-876B-419B-BFEF-31DC9DC8C5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281A-E0E4-41A2-A163-F62CED39C1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st column, you indicate how you will inform the decision maker and other stakeholders of the data-informed decision. When completing this column, think back to our session on feedback. What mechanism or format will you use to inform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9642-0825-47BA-B400-FD0B9A484E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our example, perhaps you would prepare a short paragraph summarizing the findings of your analysis and highlighting the programmatic recommendation. This would be presented to the stakeholders outlined in the stakeholder column. </a:t>
            </a:r>
            <a:endParaRPr b="0" lang="en-US" sz="1200" spc="-1" strike="noStrike">
              <a:solidFill>
                <a:srgbClr val="000000"/>
              </a:solidFill>
              <a:latin typeface="Arial"/>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D3AF-0091-49E4-9DEF-037459D5BE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Click mouse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ou will fill in the decision column. In our example, let’s assume that the analysis informed us that the PMTCT program was nowhere close to meeting its targets for the year, the nurse-to-client ratio was far below acceptable, and there were sufficient test kits to reach programmatic targets. After this information was discussed with key stakeholders and interpreted in the context of the PMTCT program, the Head of the Regional Health Committee decided that additional PMTCT counselors would improve program performance. We fill in column 1 with thi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important to note that this tool can be applied in different ways, depending on the needs of the user. If the decision is known and clear, the users will start with column 1 first and work their way across the matrix to the right.  </a:t>
            </a:r>
            <a:endParaRPr b="0" lang="en-US" sz="1200" spc="-1" strike="noStrike">
              <a:solidFill>
                <a:srgbClr val="000000"/>
              </a:solidFill>
              <a:latin typeface="Arial"/>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6E94-ACD6-4058-9A00-49FD73036E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for Linking Data with Action is a management tool—a combination of template and process—that serves three key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reates a time-bound plan for data-informed decision making </a:t>
            </a:r>
            <a:r>
              <a:rPr b="0" lang="en-US" sz="1200" spc="-1" strike="noStrike">
                <a:solidFill>
                  <a:srgbClr val="000000"/>
                </a:solidFill>
                <a:latin typeface="Arial"/>
              </a:rPr>
              <a:t>by setting dates by which data should be reviewed in relation to key programmatic questions and upcom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Encourages greater use of existing information </a:t>
            </a:r>
            <a:r>
              <a:rPr b="0" lang="en-US" sz="1200" spc="-1" strike="noStrike">
                <a:solidFill>
                  <a:srgbClr val="000000"/>
                </a:solidFill>
                <a:latin typeface="Arial"/>
              </a:rPr>
              <a:t>by</a:t>
            </a:r>
            <a:r>
              <a:rPr b="1" lang="en-US" sz="1200" spc="-1" strike="noStrike">
                <a:solidFill>
                  <a:srgbClr val="000000"/>
                </a:solidFill>
                <a:latin typeface="Arial"/>
              </a:rPr>
              <a:t> </a:t>
            </a:r>
            <a:r>
              <a:rPr b="0" lang="en-US" sz="1200" spc="-1" strike="noStrike">
                <a:solidFill>
                  <a:srgbClr val="000000"/>
                </a:solidFill>
                <a:latin typeface="Arial"/>
              </a:rPr>
              <a:t>identifying existing data resources and linking that information with the programmatic questions that need answers to support evidence-bas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it provides you with a data-informed decision-making ‘record’ so that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nitor the use of information in decision making—</a:t>
            </a:r>
            <a:r>
              <a:rPr b="0" lang="en-US" sz="1200" spc="-1" strike="noStrike">
                <a:solidFill>
                  <a:srgbClr val="000000"/>
                </a:solidFill>
                <a:latin typeface="Arial"/>
              </a:rPr>
              <a:t>Provides</a:t>
            </a:r>
            <a:r>
              <a:rPr b="1" lang="en-US" sz="1200" spc="-1" strike="noStrike">
                <a:solidFill>
                  <a:srgbClr val="000000"/>
                </a:solidFill>
                <a:latin typeface="Arial"/>
              </a:rPr>
              <a:t> </a:t>
            </a:r>
            <a:r>
              <a:rPr b="0" lang="en-US" sz="1200" spc="-1" strike="noStrike">
                <a:solidFill>
                  <a:srgbClr val="000000"/>
                </a:solidFill>
                <a:latin typeface="Arial"/>
              </a:rPr>
              <a:t>a timeline for conducting analyses and making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1D13-1BEA-487E-926D-94537E0CC8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move on to the small group activity, let’s review the key messages of this session.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7FA9-9F53-4EAA-949B-BAE969CA68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practice applying the Framework for Linking Data wit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Divide the group into small groups of six to eight people each. Read slide.</a:t>
            </a:r>
            <a:endParaRPr b="0" lang="en-US" sz="1200" spc="-1" strike="noStrike">
              <a:solidFill>
                <a:srgbClr val="000000"/>
              </a:solidFill>
              <a:latin typeface="Arial"/>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CB9E-06AB-4C88-A4F4-D2DD7A36E7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ompleted the exercise, each break-out group will share its experiences with the larger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After each group presents its work, encourage the large group to comment and ask questions about how the Framework can be improved. </a:t>
            </a: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047D-CBEB-40E4-953F-15A3FEEA9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2FA1-267D-405D-92BE-2D2A27A3CA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will talk about decisions made at all levels of the health sector and the questions that we ask to help inform these decisions, and present a tool that helps bring together decisions, questions, and the data that can be used in the decision making process. This tool is called the Framework for Linking Data with Action. Finally, we will end the session with group work.</a:t>
            </a:r>
            <a:endParaRPr b="0" lang="en-US" sz="1200" spc="-1" strike="noStrike">
              <a:solidFill>
                <a:srgbClr val="000000"/>
              </a:solidFill>
              <a:latin typeface="Arial"/>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2B4B-9FCF-4D69-81E1-D74B7D6C6D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previous sessions, we discussed many of the concepts and tools that can facilitate data use in your setting. Now let’s discuss the practical aspect of data use. How can you manage to build data use into your work? How do you ensure that data use becomes part and parcel of your day-to-day duties? The answer is to PLAN for i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ASURE Evaluation has developed a simple tool that assists users in identifying decisions and programmatic questions faced in day-to-day work. These may be decisions and questions arou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gram monitoring, planning, and improvement</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dvocacy need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gram management or operations issu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ramework helps you to link the decisions and questions with data and then creates a time-bound plan for decision making. It is also critical to involve others in your work because the best decisions are made with stakeholder involvement. You need to understa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isions others make</a:t>
            </a:r>
            <a:endParaRPr b="0" lang="en-US" sz="1100" spc="-1" strike="noStrike">
              <a:solidFill>
                <a:srgbClr val="000000"/>
              </a:solidFill>
              <a:latin typeface="Arial"/>
            </a:endParaRPr>
          </a:p>
          <a:p>
            <a:pPr>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they need</a:t>
            </a:r>
            <a:endParaRPr b="0" lang="en-US" sz="1100" spc="-1" strike="noStrike">
              <a:solidFill>
                <a:srgbClr val="000000"/>
              </a:solidFill>
              <a:latin typeface="Arial"/>
            </a:endParaRPr>
          </a:p>
          <a:p>
            <a:pPr>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best way to present that information</a:t>
            </a:r>
            <a:endParaRPr b="0" lang="en-US" sz="1100" spc="-1" strike="noStrike">
              <a:solidFill>
                <a:srgbClr val="000000"/>
              </a:solidFill>
              <a:latin typeface="Arial"/>
            </a:endParaRPr>
          </a:p>
          <a:p>
            <a:pPr lvl="1" marL="571680" indent="0">
              <a:lnSpc>
                <a:spcPct val="9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next few slides, I will orient you to the Framework for Linking Data with A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EC7E-1253-439A-A095-62F696B253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assists you in identif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BC66-E0A8-439D-A712-3BCB834320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C12E-EC09-4787-8EB9-0A026DA65A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look at the Framework.</a:t>
            </a:r>
            <a:endParaRPr b="0" lang="en-US" sz="1200" spc="-1" strike="noStrike">
              <a:solidFill>
                <a:srgbClr val="000000"/>
              </a:solidFill>
              <a:latin typeface="Arial"/>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6010-1D0F-4A06-8C20-A787D19AE8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template for the Framework for Linking Data wit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a few minutes, we will practice using the Framework. Before we do that, I’d like to spend a few minutes orienting you as to how to use it.  </a:t>
            </a:r>
            <a:endParaRPr b="0" lang="en-US" sz="1200" spc="-1" strike="noStrike">
              <a:solidFill>
                <a:srgbClr val="000000"/>
              </a:solidFill>
              <a:latin typeface="Arial"/>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7ADE-65F2-441A-907C-3C6B19B03B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first about the first two columns – the Decision/Action and the Program/Policy colum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someone put in the first column – the Decision/Action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For slides 9, 14, 16, 18, 20, and 22, it is important to orient participants as to which columns you are explaining. You can animate the red circles in this presentation to assist with this. Click the mouse and the red circle will appear. </a:t>
            </a:r>
            <a:endParaRPr b="0" lang="en-US" sz="1200" spc="-1" strike="noStrike">
              <a:solidFill>
                <a:srgbClr val="000000"/>
              </a:solidFill>
              <a:latin typeface="Arial"/>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5F2E-946F-4AD8-B34D-88B11AE446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BE282FB-9074-4B2E-BEC3-9180D82E52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8665FB-2DCC-4B29-AC0F-7F3C2BA1672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D829239-60DB-44CE-AB52-FAEFD521DB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A205539-A478-4304-96FB-8E0B4C02030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EC2315F-F2B4-4465-9B05-01895F15409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25B482-F89B-415C-B556-5A801BEE69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6B8584-5874-4745-8FCF-91DEC79899D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808613-C27F-4E09-9B32-4D3E0660D74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52C433-AEF2-4D5B-8FD3-0B4942CF1D5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EEEFA9-1FD5-4D5C-906A-D2BE743918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6C38D7-86F2-485D-9E59-2E31BFD14F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FD7EA4-ACD6-40DB-B048-422FD523A6F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631252-F182-4F51-B2C3-7CA5DE47D6F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3B3BC2-B1AA-474B-9AAB-D8467F4CC3A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307B606-2F2C-48B7-B618-7018555C73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FA7316-9B7B-48A2-9876-E48CB02929C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5FD86E3-BAA1-4242-90F5-D5272FB62F0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7B4B18-DFAF-4FB8-9406-C2DE4D51435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C75FE1B-332B-44A5-9195-E10DD5F40BA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22639E7-A884-4358-B467-C53874A4635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D3DFF4D-D006-47A2-A562-06616AE28AE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4F036C1-A344-4E88-9FAA-5CB3A416559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54E4CE-A7B8-4908-9F3C-84E27FC5B1E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F422632-6087-49F9-820A-C07DC5EB7EA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34D25DF-5D8B-471D-A4CD-117F03A60C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62328A4-132D-4F83-A7EE-1A1FE15810B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012FA6E-130E-44BA-867A-486BDECD32B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2E3EE1D-1CBD-4FFA-ACFD-2AF4420F208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511FE74-9884-4F15-AD0B-6181CC85C2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F2813A2-72C6-4C3E-BC31-78A376FE8A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157470B-9154-41BE-83BE-80322FDF61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680C118-8B41-4313-882B-17212E2D85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ED6BC76-80F4-487A-B4B3-CFEA30D0B9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444C0AF-BD83-4668-927A-D7301B4B2E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FC79B6-6514-4E5B-8C5A-D331A1D0DE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8872005-64CA-4C7B-80F3-77B0A64C78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C9FF2DD-923E-4437-ADBD-023D8F0584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7CA377C-35BF-421D-A319-ADF9F939E0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4733B5A-D7EF-4575-B07A-C81B69E292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4BF2E5A-FABB-4CAF-A3A8-D66BEBD03F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0741BEE-BB77-47E5-92EB-AFA4CB4EB2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E8866F4-E770-4BCB-9C23-0A1DB4F41AA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E3AD90-BD5B-43FA-9004-581685CB91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FA28A2-2694-45DB-B879-408AC38DC20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C4846E-9FA5-47CA-B2EE-8C95D6E2AD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EE40B9-73E6-436D-8E93-C140BC28537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61073A-A41D-4B06-9C4F-BDD2D2B4EA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26E874-B480-4D33-941C-EDEB9E2355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9BBE-60BE-4384-B09D-107CB765AB3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0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12"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67A2-D0EF-497A-A65A-CCB6E5A0B70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1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5" name="Picture 8" descr="Vertical_RGB_600"/>
          <p:cNvPicPr/>
          <p:nvPr/>
        </p:nvPicPr>
        <p:blipFill>
          <a:blip r:embed="rId2"/>
          <a:stretch/>
        </p:blipFill>
        <p:spPr>
          <a:xfrm>
            <a:off x="6580080" y="5829480"/>
            <a:ext cx="1116000" cy="914400"/>
          </a:xfrm>
          <a:prstGeom prst="rect">
            <a:avLst/>
          </a:prstGeom>
          <a:ln w="0">
            <a:noFill/>
          </a:ln>
        </p:spPr>
      </p:pic>
      <p:pic>
        <p:nvPicPr>
          <p:cNvPr id="416"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89"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0" name="Picture 5" descr="Vertical_RGB_600"/>
          <p:cNvPicPr/>
          <p:nvPr/>
        </p:nvPicPr>
        <p:blipFill>
          <a:blip r:embed="rId2"/>
          <a:stretch/>
        </p:blipFill>
        <p:spPr>
          <a:xfrm>
            <a:off x="5568840" y="5059440"/>
            <a:ext cx="1673280" cy="1371600"/>
          </a:xfrm>
          <a:prstGeom prst="rect">
            <a:avLst/>
          </a:prstGeom>
          <a:ln w="0">
            <a:noFill/>
          </a:ln>
        </p:spPr>
      </p:pic>
      <p:pic>
        <p:nvPicPr>
          <p:cNvPr id="491" name="Picture 6" descr="logo_2004"/>
          <p:cNvPicPr/>
          <p:nvPr/>
        </p:nvPicPr>
        <p:blipFill>
          <a:blip r:embed="rId3"/>
          <a:stretch/>
        </p:blipFill>
        <p:spPr>
          <a:xfrm>
            <a:off x="7504200" y="5021280"/>
            <a:ext cx="1447560" cy="1371600"/>
          </a:xfrm>
          <a:prstGeom prst="rect">
            <a:avLst/>
          </a:prstGeom>
          <a:ln w="0">
            <a:noFill/>
          </a:ln>
        </p:spPr>
      </p:pic>
      <p:pic>
        <p:nvPicPr>
          <p:cNvPr id="492" name="Picture 13" descr=""/>
          <p:cNvPicPr/>
          <p:nvPr/>
        </p:nvPicPr>
        <p:blipFill>
          <a:blip r:embed="rId4"/>
          <a:stretch/>
        </p:blipFill>
        <p:spPr>
          <a:xfrm>
            <a:off x="4254480" y="5094360"/>
            <a:ext cx="1049400" cy="1258920"/>
          </a:xfrm>
          <a:prstGeom prst="rect">
            <a:avLst/>
          </a:prstGeom>
          <a:ln w="0">
            <a:noFill/>
          </a:ln>
        </p:spPr>
      </p:pic>
      <p:pic>
        <p:nvPicPr>
          <p:cNvPr id="493" name="Picture 14" descr="left_image"/>
          <p:cNvPicPr/>
          <p:nvPr/>
        </p:nvPicPr>
        <p:blipFill>
          <a:blip r:embed="rId5"/>
          <a:stretch/>
        </p:blipFill>
        <p:spPr>
          <a:xfrm>
            <a:off x="0" y="322200"/>
            <a:ext cx="1238400" cy="6535800"/>
          </a:xfrm>
          <a:prstGeom prst="rect">
            <a:avLst/>
          </a:prstGeom>
          <a:ln w="0">
            <a:noFill/>
          </a:ln>
        </p:spPr>
      </p:pic>
      <p:sp>
        <p:nvSpPr>
          <p:cNvPr id="4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9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3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3" name="Picture 5" descr="Vertical_RGB_600"/>
          <p:cNvPicPr/>
          <p:nvPr/>
        </p:nvPicPr>
        <p:blipFill>
          <a:blip r:embed="rId2"/>
          <a:stretch/>
        </p:blipFill>
        <p:spPr>
          <a:xfrm>
            <a:off x="2600280" y="5010120"/>
            <a:ext cx="1673280" cy="1371600"/>
          </a:xfrm>
          <a:prstGeom prst="rect">
            <a:avLst/>
          </a:prstGeom>
          <a:ln w="0">
            <a:noFill/>
          </a:ln>
        </p:spPr>
      </p:pic>
      <p:pic>
        <p:nvPicPr>
          <p:cNvPr id="534" name="Picture 6" descr="logo_2004"/>
          <p:cNvPicPr/>
          <p:nvPr/>
        </p:nvPicPr>
        <p:blipFill>
          <a:blip r:embed="rId3"/>
          <a:stretch/>
        </p:blipFill>
        <p:spPr>
          <a:xfrm>
            <a:off x="4809960" y="5010120"/>
            <a:ext cx="1447920" cy="1371600"/>
          </a:xfrm>
          <a:prstGeom prst="rect">
            <a:avLst/>
          </a:prstGeom>
          <a:ln w="0">
            <a:noFill/>
          </a:ln>
        </p:spPr>
      </p:pic>
      <p:pic>
        <p:nvPicPr>
          <p:cNvPr id="535" name="Picture 13" descr=""/>
          <p:cNvPicPr/>
          <p:nvPr/>
        </p:nvPicPr>
        <p:blipFill>
          <a:blip r:embed="rId4"/>
          <a:stretch/>
        </p:blipFill>
        <p:spPr>
          <a:xfrm>
            <a:off x="4254480" y="5094360"/>
            <a:ext cx="1049400" cy="1258920"/>
          </a:xfrm>
          <a:prstGeom prst="rect">
            <a:avLst/>
          </a:prstGeom>
          <a:ln w="0">
            <a:noFill/>
          </a:ln>
        </p:spPr>
      </p:pic>
      <p:pic>
        <p:nvPicPr>
          <p:cNvPr id="536" name="Picture 14" descr="left_image"/>
          <p:cNvPicPr/>
          <p:nvPr/>
        </p:nvPicPr>
        <p:blipFill>
          <a:blip r:embed="rId5"/>
          <a:stretch/>
        </p:blipFill>
        <p:spPr>
          <a:xfrm>
            <a:off x="0" y="322200"/>
            <a:ext cx="1238400" cy="6535800"/>
          </a:xfrm>
          <a:prstGeom prst="rect">
            <a:avLst/>
          </a:prstGeom>
          <a:ln w="0">
            <a:noFill/>
          </a:ln>
        </p:spPr>
      </p:pic>
      <p:sp>
        <p:nvSpPr>
          <p:cNvPr id="5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3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BC1C-690A-4D1B-B4BA-3251CE27B8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76" name="PlaceHolder 2"/>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13"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4" name="Picture 5" descr="Vertical_RGB_600"/>
          <p:cNvPicPr/>
          <p:nvPr/>
        </p:nvPicPr>
        <p:blipFill>
          <a:blip r:embed="rId2"/>
          <a:stretch/>
        </p:blipFill>
        <p:spPr>
          <a:xfrm>
            <a:off x="2600280" y="5010120"/>
            <a:ext cx="1673280" cy="1371600"/>
          </a:xfrm>
          <a:prstGeom prst="rect">
            <a:avLst/>
          </a:prstGeom>
          <a:ln w="0">
            <a:noFill/>
          </a:ln>
        </p:spPr>
      </p:pic>
      <p:pic>
        <p:nvPicPr>
          <p:cNvPr id="615" name="Picture 6" descr="logo_2004"/>
          <p:cNvPicPr/>
          <p:nvPr/>
        </p:nvPicPr>
        <p:blipFill>
          <a:blip r:embed="rId3"/>
          <a:stretch/>
        </p:blipFill>
        <p:spPr>
          <a:xfrm>
            <a:off x="4809960" y="5010120"/>
            <a:ext cx="1447920" cy="1371600"/>
          </a:xfrm>
          <a:prstGeom prst="rect">
            <a:avLst/>
          </a:prstGeom>
          <a:ln w="0">
            <a:noFill/>
          </a:ln>
        </p:spPr>
      </p:pic>
      <p:sp>
        <p:nvSpPr>
          <p:cNvPr id="6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1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C395-6765-44E9-BC62-38E7B3154B6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NKING DATA TO ACTION</a:t>
            </a:r>
            <a:endParaRPr b="1" lang="en-US" sz="4000" spc="-1" strike="noStrike">
              <a:solidFill>
                <a:srgbClr val="ffffff"/>
              </a:solidFill>
              <a:latin typeface="Arial"/>
            </a:endParaRPr>
          </a:p>
        </p:txBody>
      </p:sp>
      <p:pic>
        <p:nvPicPr>
          <p:cNvPr id="662" name="Picture 4" descr="L1DSCF0017"/>
          <p:cNvPicPr/>
          <p:nvPr/>
        </p:nvPicPr>
        <p:blipFill>
          <a:blip r:embed="rId1"/>
          <a:stretch/>
        </p:blipFill>
        <p:spPr>
          <a:xfrm>
            <a:off x="2835360" y="2239920"/>
            <a:ext cx="3446280" cy="2584440"/>
          </a:xfrm>
          <a:prstGeom prst="rect">
            <a:avLst/>
          </a:prstGeom>
          <a:ln w="9360">
            <a:solidFill>
              <a:srgbClr val="ffffff"/>
            </a:solidFill>
            <a:miter/>
          </a:ln>
        </p:spPr>
      </p:pic>
      <p:sp>
        <p:nvSpPr>
          <p:cNvPr id="663" name="TextBox 1"/>
          <p:cNvSpPr/>
          <p:nvPr/>
        </p:nvSpPr>
        <p:spPr>
          <a:xfrm>
            <a:off x="6645240" y="3532320"/>
            <a:ext cx="198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Decisions?</a:t>
            </a:r>
            <a:endParaRPr b="1" lang="en-US" sz="3600" spc="-1" strike="noStrike">
              <a:solidFill>
                <a:srgbClr val="ffffff"/>
              </a:solidFill>
              <a:latin typeface="Arial"/>
            </a:endParaRPr>
          </a:p>
        </p:txBody>
      </p:sp>
      <p:sp>
        <p:nvSpPr>
          <p:cNvPr id="681"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s that lead to ac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ecisions are informed by </a:t>
            </a:r>
            <a:r>
              <a:rPr b="0" lang="en-US" sz="2800" spc="-1" strike="noStrike">
                <a:solidFill>
                  <a:srgbClr val="ffff33"/>
                </a:solidFill>
                <a:latin typeface="Arial"/>
              </a:rPr>
              <a:t>question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questions should be based on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76000" y="296640"/>
            <a:ext cx="829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s</a:t>
            </a:r>
            <a:endParaRPr b="1" lang="en-US" sz="3600" spc="-1" strike="noStrike">
              <a:solidFill>
                <a:srgbClr val="ffffff"/>
              </a:solidFill>
              <a:latin typeface="Arial"/>
            </a:endParaRPr>
          </a:p>
        </p:txBody>
      </p:sp>
      <p:sp>
        <p:nvSpPr>
          <p:cNvPr id="683" name=""/>
          <p:cNvSpPr txBox="1"/>
          <p:nvPr/>
        </p:nvSpPr>
        <p:spPr>
          <a:xfrm>
            <a:off x="534600" y="1325160"/>
            <a:ext cx="7675560" cy="503244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ion of resources across IPs/ states / districts / facilitie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ing OVC program approaches to emphasize fostering and adop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nd institute workplace policies on HIV/AIDS in all institutions in state X</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re and allocate staff to facilitie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 or Question</a:t>
            </a:r>
            <a:endParaRPr b="1" lang="en-US" sz="3600" spc="-1" strike="noStrike">
              <a:solidFill>
                <a:srgbClr val="ffffff"/>
              </a:solidFill>
              <a:latin typeface="Arial"/>
            </a:endParaRPr>
          </a:p>
        </p:txBody>
      </p:sp>
      <p:pic>
        <p:nvPicPr>
          <p:cNvPr id="685" name="Picture 2" descr="C:\Users\TNutley\AppData\Local\Microsoft\Windows\Temporary Internet Files\Content.IE5\NID92NCW\MC900383550[1].wmf"/>
          <p:cNvPicPr/>
          <p:nvPr/>
        </p:nvPicPr>
        <p:blipFill>
          <a:blip r:embed="rId1"/>
          <a:stretch/>
        </p:blipFill>
        <p:spPr>
          <a:xfrm>
            <a:off x="4094280" y="2249640"/>
            <a:ext cx="1557360" cy="221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76000" y="296640"/>
            <a:ext cx="829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matic Questions</a:t>
            </a:r>
            <a:endParaRPr b="1" lang="en-US" sz="3600" spc="-1" strike="noStrike">
              <a:solidFill>
                <a:srgbClr val="ffffff"/>
              </a:solidFill>
              <a:latin typeface="Arial"/>
            </a:endParaRPr>
          </a:p>
        </p:txBody>
      </p:sp>
      <p:sp>
        <p:nvSpPr>
          <p:cNvPr id="687" name=""/>
          <p:cNvSpPr txBox="1"/>
          <p:nvPr/>
        </p:nvSpPr>
        <p:spPr>
          <a:xfrm>
            <a:off x="534600" y="1325520"/>
            <a:ext cx="7675560" cy="4394160"/>
          </a:xfrm>
          <a:prstGeom prst="rect">
            <a:avLst/>
          </a:prstGeom>
          <a:noFill/>
          <a:ln w="0">
            <a:noFill/>
          </a:ln>
        </p:spPr>
        <p:txBody>
          <a:bodyPr anchor="t">
            <a:normAutofit fontScale="99000"/>
          </a:bodyPr>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HIV+ pregnant women in care actually are delivering in health facilities?</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clients starting ART are lost to follow-up?</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 number of family planning clients decreasing?  </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pregnant patients who are HIV+ actually are receiving AR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89" name=""/>
          <p:cNvGraphicFramePr/>
          <p:nvPr/>
        </p:nvGraphicFramePr>
        <p:xfrm>
          <a:off x="297000" y="1550880"/>
          <a:ext cx="8658000" cy="5121360"/>
        </p:xfrm>
        <a:graphic>
          <a:graphicData uri="http://schemas.openxmlformats.org/drawingml/2006/table">
            <a:tbl>
              <a:tblPr/>
              <a:tblGrid>
                <a:gridCol w="1220760"/>
                <a:gridCol w="1400040"/>
                <a:gridCol w="1306440"/>
                <a:gridCol w="957240"/>
                <a:gridCol w="1101960"/>
                <a:gridCol w="1326960"/>
                <a:gridCol w="1344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382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 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690" name="Oval 4"/>
          <p:cNvSpPr/>
          <p:nvPr/>
        </p:nvSpPr>
        <p:spPr>
          <a:xfrm>
            <a:off x="2496960" y="1212840"/>
            <a:ext cx="153036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92" name=""/>
          <p:cNvGraphicFramePr/>
          <p:nvPr/>
        </p:nvGraphicFramePr>
        <p:xfrm>
          <a:off x="297000" y="1550880"/>
          <a:ext cx="8645400" cy="5396040"/>
        </p:xfrm>
        <a:graphic>
          <a:graphicData uri="http://schemas.openxmlformats.org/drawingml/2006/table">
            <a:tbl>
              <a:tblPr/>
              <a:tblGrid>
                <a:gridCol w="1220760"/>
                <a:gridCol w="1220760"/>
                <a:gridCol w="1288800"/>
                <a:gridCol w="1154160"/>
                <a:gridCol w="1101960"/>
                <a:gridCol w="1368360"/>
                <a:gridCol w="1290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94" name=""/>
          <p:cNvGraphicFramePr/>
          <p:nvPr/>
        </p:nvGraphicFramePr>
        <p:xfrm>
          <a:off x="297000" y="1550880"/>
          <a:ext cx="8618400" cy="5396040"/>
        </p:xfrm>
        <a:graphic>
          <a:graphicData uri="http://schemas.openxmlformats.org/drawingml/2006/table">
            <a:tbl>
              <a:tblPr/>
              <a:tblGrid>
                <a:gridCol w="1220760"/>
                <a:gridCol w="1220760"/>
                <a:gridCol w="1288800"/>
                <a:gridCol w="1154160"/>
                <a:gridCol w="1101960"/>
                <a:gridCol w="1341360"/>
                <a:gridCol w="1290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695" name="Oval 4"/>
          <p:cNvSpPr/>
          <p:nvPr/>
        </p:nvSpPr>
        <p:spPr>
          <a:xfrm>
            <a:off x="3692520" y="1055520"/>
            <a:ext cx="2849400" cy="288324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97" name=""/>
          <p:cNvGraphicFramePr/>
          <p:nvPr/>
        </p:nvGraphicFramePr>
        <p:xfrm>
          <a:off x="297000" y="1550880"/>
          <a:ext cx="8645400" cy="5396040"/>
        </p:xfrm>
        <a:graphic>
          <a:graphicData uri="http://schemas.openxmlformats.org/drawingml/2006/table">
            <a:tbl>
              <a:tblPr/>
              <a:tblGrid>
                <a:gridCol w="1220760"/>
                <a:gridCol w="1220760"/>
                <a:gridCol w="1288800"/>
                <a:gridCol w="1160640"/>
                <a:gridCol w="1125360"/>
                <a:gridCol w="1378080"/>
                <a:gridCol w="1251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99" name=""/>
          <p:cNvGraphicFramePr/>
          <p:nvPr/>
        </p:nvGraphicFramePr>
        <p:xfrm>
          <a:off x="297000" y="1550880"/>
          <a:ext cx="8631000" cy="5396040"/>
        </p:xfrm>
        <a:graphic>
          <a:graphicData uri="http://schemas.openxmlformats.org/drawingml/2006/table">
            <a:tbl>
              <a:tblPr/>
              <a:tblGrid>
                <a:gridCol w="1220760"/>
                <a:gridCol w="1220760"/>
                <a:gridCol w="1288800"/>
                <a:gridCol w="1160640"/>
                <a:gridCol w="1125360"/>
                <a:gridCol w="1311480"/>
                <a:gridCol w="13032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700" name="Oval 4"/>
          <p:cNvSpPr/>
          <p:nvPr/>
        </p:nvSpPr>
        <p:spPr>
          <a:xfrm>
            <a:off x="6119640" y="966960"/>
            <a:ext cx="152892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702" name=""/>
          <p:cNvGraphicFramePr/>
          <p:nvPr/>
        </p:nvGraphicFramePr>
        <p:xfrm>
          <a:off x="297000" y="1550880"/>
          <a:ext cx="8547120" cy="5396040"/>
        </p:xfrm>
        <a:graphic>
          <a:graphicData uri="http://schemas.openxmlformats.org/drawingml/2006/table">
            <a:tbl>
              <a:tblPr/>
              <a:tblGrid>
                <a:gridCol w="1220760"/>
                <a:gridCol w="1220760"/>
                <a:gridCol w="1288800"/>
                <a:gridCol w="1095480"/>
                <a:gridCol w="1143000"/>
                <a:gridCol w="1413000"/>
                <a:gridCol w="116532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rch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June 2011, </a:t>
                      </a:r>
                      <a:r>
                        <a:rPr b="1" lang="en-US" sz="1800" spc="-1" strike="noStrike">
                          <a:solidFill>
                            <a:srgbClr val="005a58"/>
                          </a:solidFill>
                          <a:latin typeface="Arial"/>
                        </a:rPr>
                        <a:t>September 2011</a:t>
                      </a:r>
                      <a:r>
                        <a:rPr b="0" lang="en-US" sz="1800" spc="-1" strike="noStrike">
                          <a:solidFill>
                            <a:srgbClr val="005a58"/>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ember 201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665"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end of this session, you will be able to:</a:t>
            </a:r>
            <a:endParaRPr b="0" lang="en-US" sz="28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priority decisions and programmatic ques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k decisions/questions with potential data sourc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a time-bound plan for using data in decision mak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704" name=""/>
          <p:cNvGraphicFramePr/>
          <p:nvPr/>
        </p:nvGraphicFramePr>
        <p:xfrm>
          <a:off x="297000" y="1550880"/>
          <a:ext cx="8618400" cy="5396040"/>
        </p:xfrm>
        <a:graphic>
          <a:graphicData uri="http://schemas.openxmlformats.org/drawingml/2006/table">
            <a:tbl>
              <a:tblPr/>
              <a:tblGrid>
                <a:gridCol w="1220760"/>
                <a:gridCol w="1220760"/>
                <a:gridCol w="1288800"/>
                <a:gridCol w="1160640"/>
                <a:gridCol w="1125360"/>
                <a:gridCol w="1297080"/>
                <a:gridCol w="1305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705" name="Oval 4"/>
          <p:cNvSpPr/>
          <p:nvPr/>
        </p:nvSpPr>
        <p:spPr>
          <a:xfrm>
            <a:off x="7535880" y="966960"/>
            <a:ext cx="153036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707" name=""/>
          <p:cNvGraphicFramePr/>
          <p:nvPr/>
        </p:nvGraphicFramePr>
        <p:xfrm>
          <a:off x="297000" y="1550880"/>
          <a:ext cx="8618400" cy="5396040"/>
        </p:xfrm>
        <a:graphic>
          <a:graphicData uri="http://schemas.openxmlformats.org/drawingml/2006/table">
            <a:tbl>
              <a:tblPr/>
              <a:tblGrid>
                <a:gridCol w="1220760"/>
                <a:gridCol w="1220760"/>
                <a:gridCol w="1288800"/>
                <a:gridCol w="1160640"/>
                <a:gridCol w="1125360"/>
                <a:gridCol w="1351080"/>
                <a:gridCol w="1251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hort summary presented to facility manager at weekly clinic meet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709" name=""/>
          <p:cNvGraphicFramePr/>
          <p:nvPr/>
        </p:nvGraphicFramePr>
        <p:xfrm>
          <a:off x="297000" y="1550880"/>
          <a:ext cx="8672400" cy="5396040"/>
        </p:xfrm>
        <a:graphic>
          <a:graphicData uri="http://schemas.openxmlformats.org/drawingml/2006/table">
            <a:tbl>
              <a:tblPr/>
              <a:tblGrid>
                <a:gridCol w="1220760"/>
                <a:gridCol w="1220760"/>
                <a:gridCol w="1288800"/>
                <a:gridCol w="1160640"/>
                <a:gridCol w="1125360"/>
                <a:gridCol w="1324080"/>
                <a:gridCol w="1332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Hire more PMTCT counsel-or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hort summary presented to facility manager at weekly clinic meet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710" name="Oval 4"/>
          <p:cNvSpPr/>
          <p:nvPr/>
        </p:nvSpPr>
        <p:spPr>
          <a:xfrm>
            <a:off x="0" y="1249200"/>
            <a:ext cx="1530360" cy="162900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sp>
        <p:nvSpPr>
          <p:cNvPr id="712" name=""/>
          <p:cNvSpPr txBox="1"/>
          <p:nvPr/>
        </p:nvSpPr>
        <p:spPr>
          <a:xfrm>
            <a:off x="923760" y="1773360"/>
            <a:ext cx="7763040" cy="3962160"/>
          </a:xfrm>
          <a:prstGeom prst="rect">
            <a:avLst/>
          </a:prstGeom>
          <a:noFill/>
          <a:ln w="0">
            <a:noFill/>
          </a:ln>
        </p:spPr>
        <p:txBody>
          <a:bodyPr anchor="t">
            <a:normAutofit fontScale="96000"/>
          </a:bodyPr>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a time-bound plan for information-informed decision making</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s greater use of existing information</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 the use of information in decision making</a:t>
            </a:r>
            <a:endParaRPr b="0" lang="en-US" sz="2800" spc="-1" strike="noStrike">
              <a:solidFill>
                <a:srgbClr val="ffffff"/>
              </a:solidFill>
              <a:latin typeface="Arial"/>
            </a:endParaRPr>
          </a:p>
          <a:p>
            <a:pPr marL="329040" indent="-32904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32904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714" name=""/>
          <p:cNvSpPr txBox="1"/>
          <p:nvPr/>
        </p:nvSpPr>
        <p:spPr>
          <a:xfrm>
            <a:off x="939600" y="1263240"/>
            <a:ext cx="7762680" cy="438300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data use into your work takes planning and dedicated time</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hould be linked to specific decisions so as to facilitate use</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t stakeholders should be involved in each step of the process</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ramework for Linking Data with Action can be used to create an actionable plan for using data in decision making</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12440" y="274320"/>
            <a:ext cx="820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5 – Instructions</a:t>
            </a:r>
            <a:endParaRPr b="1" lang="en-US" sz="3600" spc="-1" strike="noStrike">
              <a:solidFill>
                <a:srgbClr val="ffffff"/>
              </a:solidFill>
              <a:latin typeface="Arial"/>
            </a:endParaRPr>
          </a:p>
        </p:txBody>
      </p:sp>
      <p:sp>
        <p:nvSpPr>
          <p:cNvPr id="71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a note take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flip chart paper, create the Framework tab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nstorm three decisions or questions in columns 1 &amp; 2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lete the remaining colum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 1 hou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860400" y="274320"/>
            <a:ext cx="819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 Report Back</a:t>
            </a:r>
            <a:endParaRPr b="1" lang="en-US" sz="3600" spc="-1" strike="noStrike">
              <a:solidFill>
                <a:srgbClr val="ffffff"/>
              </a:solidFill>
              <a:latin typeface="Arial"/>
            </a:endParaRPr>
          </a:p>
        </p:txBody>
      </p:sp>
      <p:sp>
        <p:nvSpPr>
          <p:cNvPr id="718" name=""/>
          <p:cNvSpPr txBox="1"/>
          <p:nvPr/>
        </p:nvSpPr>
        <p:spPr>
          <a:xfrm>
            <a:off x="923760" y="1599840"/>
            <a:ext cx="7763040" cy="42908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will have 10 minutes to present its completed Framework</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up discussion – Are there other data sources that might have been used in this decision? Were there other stakeholders who should have been considered? (10 minu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503280" y="423720"/>
            <a:ext cx="813744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667"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and question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work for Linking Data with Ac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5: Framework for Linking Data with 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23760" y="274680"/>
            <a:ext cx="776304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ding Data Use into Your Work</a:t>
            </a:r>
            <a:endParaRPr b="1" lang="en-US" sz="3600" spc="-1" strike="noStrike">
              <a:solidFill>
                <a:srgbClr val="ffffff"/>
              </a:solidFill>
              <a:latin typeface="Arial"/>
            </a:endParaRPr>
          </a:p>
        </p:txBody>
      </p:sp>
      <p:sp>
        <p:nvSpPr>
          <p:cNvPr id="669" name=""/>
          <p:cNvSpPr txBox="1"/>
          <p:nvPr/>
        </p:nvSpPr>
        <p:spPr>
          <a:xfrm>
            <a:off x="923760" y="1303200"/>
            <a:ext cx="7763040" cy="4260960"/>
          </a:xfrm>
          <a:prstGeom prst="rect">
            <a:avLst/>
          </a:prstGeom>
          <a:noFill/>
          <a:ln w="0">
            <a:noFill/>
          </a:ln>
        </p:spPr>
        <p:txBody>
          <a:bodyPr anchor="t">
            <a:normAutofit fontScale="99000"/>
          </a:bodyPr>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N   PLAN   PLAN !</a:t>
            </a: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ularly review your data – schedule time</a:t>
            </a: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Framework for Linking Data with Action</a:t>
            </a:r>
            <a:endParaRPr b="0" lang="en-US" sz="2600" spc="-1" strike="noStrike">
              <a:solidFill>
                <a:srgbClr val="ffffff"/>
              </a:solidFill>
              <a:latin typeface="Arial"/>
            </a:endParaRPr>
          </a:p>
          <a:p>
            <a:pPr marL="339480" indent="-339480">
              <a:lnSpc>
                <a:spcPct val="90000"/>
              </a:lnSpc>
              <a:spcBef>
                <a:spcPts val="975"/>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gage in dialogue with stakeholders to fully understand the: </a:t>
            </a:r>
            <a:endParaRPr b="0" lang="en-US" sz="2600" spc="-1" strike="noStrike">
              <a:solidFill>
                <a:srgbClr val="ffffff"/>
              </a:solidFill>
              <a:latin typeface="Arial"/>
            </a:endParaRPr>
          </a:p>
          <a:p>
            <a:pPr lvl="1" marL="39564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cisions they make</a:t>
            </a:r>
            <a:endParaRPr b="0" lang="en-US" sz="2400" spc="-1" strike="noStrike">
              <a:solidFill>
                <a:srgbClr val="ffffff"/>
              </a:solidFill>
              <a:latin typeface="Arial"/>
            </a:endParaRPr>
          </a:p>
          <a:p>
            <a:pPr lvl="1" marL="39564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they need </a:t>
            </a:r>
            <a:endParaRPr b="0" lang="en-US" sz="2400" spc="-1" strike="noStrike">
              <a:solidFill>
                <a:srgbClr val="ffffff"/>
              </a:solidFill>
              <a:latin typeface="Arial"/>
            </a:endParaRPr>
          </a:p>
          <a:p>
            <a:pPr lvl="1" marL="39564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way to present that information</a:t>
            </a:r>
            <a:endParaRPr b="0" lang="en-US" sz="24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669">
                                            <p:txEl>
                                              <p:pRg st="2" end="2"/>
                                            </p:txEl>
                                          </p:spTgt>
                                        </p:tgtEl>
                                        <p:attrNameLst>
                                          <p:attrName>style.color</p:attrName>
                                        </p:attrNameLst>
                                      </p:cBhvr>
                                      <p:to>
                                        <a:srgbClr val="ffc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ments of the Framework</a:t>
            </a:r>
            <a:endParaRPr b="1" lang="en-US" sz="3600" spc="-1" strike="noStrike">
              <a:solidFill>
                <a:srgbClr val="ffffff"/>
              </a:solidFill>
              <a:latin typeface="Arial"/>
            </a:endParaRPr>
          </a:p>
        </p:txBody>
      </p:sp>
      <p:sp>
        <p:nvSpPr>
          <p:cNvPr id="671" name=""/>
          <p:cNvSpPr txBox="1"/>
          <p:nvPr/>
        </p:nvSpPr>
        <p:spPr>
          <a:xfrm>
            <a:off x="593640" y="1503000"/>
            <a:ext cx="81820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makers and stakeholders with potential interest in your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 actions that the stakeholder makes (possible uses of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to which the stakeholder requires answer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decision will be made</a:t>
            </a:r>
            <a:endParaRPr b="0" lang="en-US" sz="2800" spc="-1" strike="noStrike">
              <a:solidFill>
                <a:srgbClr val="ffffff"/>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ments of the Framework (cont’d)</a:t>
            </a:r>
            <a:endParaRPr b="1" lang="en-US" sz="3200" spc="-1" strike="noStrike">
              <a:solidFill>
                <a:srgbClr val="ffffff"/>
              </a:solidFill>
              <a:latin typeface="Arial"/>
            </a:endParaRPr>
          </a:p>
        </p:txBody>
      </p:sp>
      <p:sp>
        <p:nvSpPr>
          <p:cNvPr id="673" name=""/>
          <p:cNvSpPr txBox="1"/>
          <p:nvPr/>
        </p:nvSpPr>
        <p:spPr>
          <a:xfrm>
            <a:off x="577440" y="1471680"/>
            <a:ext cx="818028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ors and/or data of interest (to respond to stakeholder ne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of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data be presented (what types of analyses, graphs, formats)?</a:t>
            </a:r>
            <a:endParaRPr b="0" lang="en-US" sz="2800" spc="-1" strike="noStrike">
              <a:solidFill>
                <a:srgbClr val="ffffff"/>
              </a:solidFill>
              <a:latin typeface="Arial"/>
            </a:endParaRPr>
          </a:p>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131840" y="1614240"/>
            <a:ext cx="71676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AMEWORK FOR LINKING DATA WITH ACTION</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76" name=""/>
          <p:cNvGraphicFramePr/>
          <p:nvPr/>
        </p:nvGraphicFramePr>
        <p:xfrm>
          <a:off x="244440" y="1673280"/>
          <a:ext cx="8545680" cy="4151160"/>
        </p:xfrm>
        <a:graphic>
          <a:graphicData uri="http://schemas.openxmlformats.org/drawingml/2006/table">
            <a:tbl>
              <a:tblPr/>
              <a:tblGrid>
                <a:gridCol w="1143000"/>
                <a:gridCol w="1247760"/>
                <a:gridCol w="1381320"/>
                <a:gridCol w="1168200"/>
                <a:gridCol w="974880"/>
                <a:gridCol w="1357200"/>
                <a:gridCol w="1273320"/>
              </a:tblGrid>
              <a:tr h="1737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51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48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54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498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78" name=""/>
          <p:cNvGraphicFramePr/>
          <p:nvPr/>
        </p:nvGraphicFramePr>
        <p:xfrm>
          <a:off x="244440" y="1673280"/>
          <a:ext cx="8643960" cy="3868560"/>
        </p:xfrm>
        <a:graphic>
          <a:graphicData uri="http://schemas.openxmlformats.org/drawingml/2006/table">
            <a:tbl>
              <a:tblPr/>
              <a:tblGrid>
                <a:gridCol w="1220760"/>
                <a:gridCol w="1184400"/>
                <a:gridCol w="1371600"/>
                <a:gridCol w="1155600"/>
                <a:gridCol w="1157400"/>
                <a:gridCol w="1384200"/>
                <a:gridCol w="1170000"/>
              </a:tblGrid>
              <a:tr h="201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Other Stakehold-ers (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
        <p:nvSpPr>
          <p:cNvPr id="679" name="Oval 2"/>
          <p:cNvSpPr/>
          <p:nvPr/>
        </p:nvSpPr>
        <p:spPr>
          <a:xfrm rot="5400000">
            <a:off x="434520" y="848880"/>
            <a:ext cx="1987560" cy="257508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dcterms:modified xsi:type="dcterms:W3CDTF">2011-04-14T16:58:28Z</dcterms:modified>
  <cp:revision>223</cp:revision>
  <dc:subject/>
  <dc:title>Slide 1</dc:title>
</cp:coreProperties>
</file>